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5.png" ContentType="image/png"/>
  <Override PartName="/ppt/media/image10.wmf" ContentType="image/x-wmf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1.jpeg" ContentType="image/jpeg"/>
  <Override PartName="/ppt/media/image8.wmf" ContentType="image/x-wmf"/>
  <Override PartName="/ppt/media/image13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E32-33D3-4B80-B019-41AB398B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D4F-0699-4707-A6B4-E10EC471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13B-4329-49D4-9089-61854870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6EF-A85E-4C9F-82C6-3BC0612C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B592-89B6-43FD-9552-3F509C1D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B8B9-E625-4937-99F0-F95A065E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059E-1556-4656-A336-4294519C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0289-CD91-46C4-84FC-375AEEB8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1391-D77D-4E30-83AB-68F0F2D5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B153-AD02-4180-A8EA-A8AD64EB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60FB-F641-406D-BAE6-7A6E654D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F7E-F72D-4AE5-93E9-A55F0B18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1763-529B-4FFC-AD36-FD4304ED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2683-35D9-4D1C-BD02-ACB82A53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14F0-3B8E-4FC4-B1BE-293DD5E2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1A69-535E-4813-AD92-BDD1DA63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C92E-B098-4188-8BC4-8BCEBD5F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738AF-5C89-4373-8526-304315D3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38C9-F19E-4DDE-A08A-47DE695A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114F8-6D7A-4E09-944B-8F1C8759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7B971-CE50-4E52-A0F3-9DFBD774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3C422-E84F-4BDC-B090-A6D7F4FD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7329-45A7-42B7-B63B-DAFC5CFE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59228-5CCF-4147-8B7C-6BE53D6C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01D13-5211-4F1B-A7CC-E2FEB3A3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ADAF6-238C-46E8-94D6-ECC96B0A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C2F64-BEEE-4B88-B373-DBF3A866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B49CA-1628-4170-B4F8-3308ED72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5821E-E114-4349-B8AF-85A037DD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E988A-1F95-4843-A5CC-C5205575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6176C-2589-4597-8277-644D58B4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A5221-50E6-4C63-B64D-961DA427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A57A0-2A01-455A-AE4E-7777D28C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6442-1C28-4D49-94E0-5E68DE16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149D9-9ADA-469D-A6FD-0D5613BA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1274-D72F-4B82-A5E6-D7E44D24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C693F-4440-4A9B-8909-AD27BBCF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A7F1A-B81B-48F0-AC71-7FD6CBA6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F84BA-A59B-4AD4-9CAD-B7C6E005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D22D5-7328-4ADA-BD3D-FA6CE89F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D71DD-3332-4596-9496-1B2EAEBA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9B00F-F41D-45D3-B41B-CB89AF0D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51832-9622-4657-8E42-94D765E8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B4860-1BAD-4CAB-8156-4FAADAB9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BA5-3C3A-4D70-B3DD-B0D84C53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E1AFE-8740-4C74-9D5E-914F4882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B159C-4E3E-49E7-8242-5395E5EF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4F9D9-5D1F-457B-9BAC-4622789A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97505-971A-4D12-97D5-07893A72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D9AAC-CA55-4AEB-B433-55677EAB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2BF92-8397-4CED-9991-29013378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F43AE-E151-4DAA-96D1-2469D2B9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2A35F-8A21-4C8B-8D5E-8F7B58AB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D46D1-95D0-474F-B447-01746432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582BB-8B10-4855-A3C0-0CF0C489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85C-9D95-4170-8461-A1C5E10A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EB589-F763-4B06-B1BF-7633B836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019B-738A-4175-9CC0-E55A6250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DD7-9E22-4532-A88C-827CE687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709-7A85-42D2-B2B9-15A28C23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B34E-3871-4CA2-8E70-5C37499E32A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7A7A-FA97-4E49-B524-4CF294F83A9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A326-2ADA-4DA0-B0A4-3AE539A989F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C66F-30A2-48BE-AEDB-F0E69A29C151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5A4E-BA57-4A39-B879-B7A879C6885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114720" y="530280"/>
            <a:ext cx="5754600" cy="2878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C:\Users\J Barnes\AppData\Local\Microsoft\Windows\Temporary Internet Files\Content.IE5\VMER7TAP\MPj04393820000[1].jpg"/>
          <p:cNvPicPr/>
          <p:nvPr/>
        </p:nvPicPr>
        <p:blipFill>
          <a:blip r:embed="rId2"/>
          <a:stretch/>
        </p:blipFill>
        <p:spPr>
          <a:xfrm>
            <a:off x="4038480" y="4114800"/>
            <a:ext cx="2982960" cy="2090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will be coming around to talk to you about how you are planning to organize your essa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e prepared to share how you are planning to organize your essay at the end of writing workshop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xplo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do you know about your subject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eady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et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o!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 your writer’s notebook, write everything that you know about your narrowed subject that you chose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ybe you want to use a web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r you can make a lis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ook over your writing and decide which part of your subject you want to cover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ut checkmarks next to those parts that you would like to include in your essay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6" name="Picture 2" descr="C:\Users\J Barnes\AppData\Local\Microsoft\Windows\Temporary Internet Files\Content.IE5\Z0NX3WWN\MCj02971770000[1].wmf"/>
          <p:cNvPicPr/>
          <p:nvPr/>
        </p:nvPicPr>
        <p:blipFill>
          <a:blip r:embed="rId1"/>
          <a:stretch/>
        </p:blipFill>
        <p:spPr>
          <a:xfrm>
            <a:off x="1905120" y="3962520"/>
            <a:ext cx="2971800" cy="2570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ather more information about the parts you checked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You might ask other peopl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-or-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et information from books, websites, magazin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emember, an expository essay is usually 3-5 paragraphs long!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9" name="Picture 3" descr="C:\Users\J Barnes\AppData\Local\Microsoft\Windows\Temporary Internet Files\Content.IE5\VMER7TAP\MCj02320820000[1].wmf"/>
          <p:cNvPicPr/>
          <p:nvPr/>
        </p:nvPicPr>
        <p:blipFill>
          <a:blip r:embed="rId2"/>
          <a:stretch/>
        </p:blipFill>
        <p:spPr>
          <a:xfrm>
            <a:off x="5257800" y="2133720"/>
            <a:ext cx="1795320" cy="1452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Users\J Barnes\AppData\Local\Microsoft\Windows\Temporary Internet Files\Content.IE5\2NN07ZSA\MPj04389100000[1].jpg"/>
          <p:cNvPicPr/>
          <p:nvPr/>
        </p:nvPicPr>
        <p:blipFill>
          <a:blip r:embed="rId3"/>
          <a:stretch/>
        </p:blipFill>
        <p:spPr>
          <a:xfrm>
            <a:off x="7543800" y="4648320"/>
            <a:ext cx="1141560" cy="76176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4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Writers choose which details to include in their essays and decide how to organize them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Will you organize by </a:t>
            </a:r>
            <a:r>
              <a:rPr b="1" lang="en-US" sz="2300" spc="-1" strike="noStrike">
                <a:solidFill>
                  <a:srgbClr val="7030a0"/>
                </a:solidFill>
                <a:latin typeface="Trebuchet MS"/>
              </a:rPr>
              <a:t>subject and details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 algn="ctr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ishing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35" name="Diagram 3" descr=""/>
          <p:cNvPicPr/>
          <p:nvPr/>
        </p:nvPicPr>
        <p:blipFill>
          <a:blip r:embed="rId2"/>
          <a:stretch/>
        </p:blipFill>
        <p:spPr>
          <a:xfrm>
            <a:off x="1652760" y="3176640"/>
            <a:ext cx="5235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Will you organize by </a:t>
            </a:r>
            <a:r>
              <a:rPr b="0" lang="en-US" sz="2300" spc="-1" strike="noStrike">
                <a:solidFill>
                  <a:srgbClr val="7030a0"/>
                </a:solidFill>
                <a:latin typeface="Trebuchet MS"/>
              </a:rPr>
              <a:t>comparing and contrasting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 algn="ctr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paring two places where you can fish in Michiga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Diagram 3" descr=""/>
          <p:cNvPicPr/>
          <p:nvPr/>
        </p:nvPicPr>
        <p:blipFill>
          <a:blip r:embed="rId2"/>
          <a:stretch/>
        </p:blipFill>
        <p:spPr>
          <a:xfrm>
            <a:off x="907920" y="3413160"/>
            <a:ext cx="61088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Will you organize by </a:t>
            </a:r>
            <a:r>
              <a:rPr b="0" lang="en-US" sz="2300" spc="-1" strike="noStrike">
                <a:solidFill>
                  <a:srgbClr val="7030a0"/>
                </a:solidFill>
                <a:latin typeface="Trebuchet MS"/>
              </a:rPr>
              <a:t>putting events in order by time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(chronological order)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oing Fishing-What do you need to know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41" name="Diagram 3" descr=""/>
          <p:cNvPicPr/>
          <p:nvPr/>
        </p:nvPicPr>
        <p:blipFill>
          <a:blip r:embed="rId2"/>
          <a:stretch/>
        </p:blipFill>
        <p:spPr>
          <a:xfrm>
            <a:off x="817560" y="3346560"/>
            <a:ext cx="6156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gure out how you would like to organize your expository essa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ubject and detail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omparing and Contrasting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hronological order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3:50:25Z</dcterms:created>
  <dc:creator>J Barnes</dc:creator>
  <dc:description/>
  <dc:language>en-US</dc:language>
  <cp:lastModifiedBy>J Barnes</cp:lastModifiedBy>
  <dcterms:modified xsi:type="dcterms:W3CDTF">2008-11-05T19:50:58Z</dcterms:modified>
  <cp:revision>6</cp:revision>
  <dc:subject/>
  <dc:title>Expository essays Gathering details</dc:title>
</cp:coreProperties>
</file>